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9FE18-DCAA-4093-A982-0AE10786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59A05-6AFE-4E8B-B8F7-1C62C267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1708C-5826-4C37-ADC3-E36C986C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125C0-4CB4-481C-AE6E-3409E0A6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6D334-1127-46CC-8D08-4047D4E6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81A9D-CA21-4BF2-9147-E11C93F5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381CA-D026-4AC6-A395-D022015C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4A7C4-04D2-45FC-9976-A02253A2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A75E9-8EC1-4A5C-B174-58CF40A8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32AEA-510D-4880-AD44-A1CE5B1E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2189A-2725-4DE0-916B-42A726E7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D9D65-0EF4-4162-8D8E-0CB98D40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FD53-8AB8-4149-A884-4A2FA66B4E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105760" cy="514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8600"/>
                </a:solidFill>
                <a:latin typeface="Arial"/>
              </a:rPr>
              <a:t>Русский язык  в современном  мире</a:t>
            </a:r>
            <a:endParaRPr b="0" lang="en-US" sz="72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Карл V, римский император, говаривал, что испанским языком прилично говорить с Богом, французским - с друзьями, немецким - с неприятелем, итальянским - с женским полом. Но если бы он русский знал язык, то конечно к тому бы добавил, что им со всеми говорить пристойно, т.к. нашёл бы в нём и великолепие испанского, и живость французского, и крепость немецкого, и нежность итальянского, и богатство, и сильную изобразительность латинского и греческого язык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Великий русский учены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Михаил Васильевич Ломоносов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Попробуйте объяснить причины появления следующих слов и выражений в сказе Н. С. Лескова «Левша»</a:t>
            </a:r>
            <a:endParaRPr b="0" lang="en-US" sz="22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2708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олбица умножения (таблица умножения), мелкоскоп (микроскоп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осадная укушетка (надоевшая кушетка), тугамент (документ), водоглаз (водолаз), клеветон (фельетон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тирабельная дощечка (доска, на которой написано и можно стереть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тудинг (пудинг), правотцы (праотц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600"/>
                </a:solidFill>
                <a:latin typeface="Arial"/>
              </a:rPr>
              <a:t>Прочитайте стихотворение С. А. Есенина</a:t>
            </a:r>
            <a:br>
              <a:rPr sz="2400"/>
            </a:br>
            <a:r>
              <a:rPr b="0" lang="ru-RU" sz="2400" spc="-1" strike="noStrike">
                <a:solidFill>
                  <a:srgbClr val="ff8600"/>
                </a:solidFill>
                <a:latin typeface="Arial"/>
              </a:rPr>
              <a:t>Обратите внимание на выделенные слова</a:t>
            </a:r>
            <a:endParaRPr b="0" lang="en-US" sz="2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99640" y="1484280"/>
            <a:ext cx="7417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рная, потом пропахшая </a:t>
            </a:r>
            <a:r>
              <a:rPr b="1" lang="ru-RU" sz="2000" spc="-1" strike="noStrike">
                <a:solidFill>
                  <a:srgbClr val="ff8600"/>
                </a:solidFill>
                <a:latin typeface="Arial"/>
              </a:rPr>
              <a:t>выт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мне тебя не ласкать, не любит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йду на озеро в синюю </a:t>
            </a:r>
            <a:r>
              <a:rPr b="1" lang="ru-RU" sz="2000" spc="-1" strike="noStrike">
                <a:solidFill>
                  <a:srgbClr val="ff8600"/>
                </a:solidFill>
                <a:latin typeface="Arial"/>
              </a:rPr>
              <a:t>га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сердцу вечерняя льнет благод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рым </a:t>
            </a:r>
            <a:r>
              <a:rPr b="1" lang="ru-RU" sz="2000" spc="-1" strike="noStrike">
                <a:solidFill>
                  <a:srgbClr val="ff8600"/>
                </a:solidFill>
                <a:latin typeface="Arial"/>
              </a:rPr>
              <a:t>веретье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тоят шалаш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ухо баюкают </a:t>
            </a:r>
            <a:r>
              <a:rPr b="1" lang="ru-RU" sz="2000" spc="-1" strike="noStrike">
                <a:solidFill>
                  <a:srgbClr val="ff8600"/>
                </a:solidFill>
                <a:latin typeface="Arial"/>
              </a:rPr>
              <a:t>хлюпь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мыш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ный костер окровил </a:t>
            </a:r>
            <a:r>
              <a:rPr b="1" lang="ru-RU" sz="2000" spc="-1" strike="noStrike">
                <a:solidFill>
                  <a:srgbClr val="ff8600"/>
                </a:solidFill>
                <a:latin typeface="Arial"/>
              </a:rPr>
              <a:t>таган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хворосте белые веки лу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ихо, на корточках, в пятнах за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ушают сказ старика коса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де-то вдали, на </a:t>
            </a:r>
            <a:r>
              <a:rPr b="1" lang="ru-RU" sz="2000" spc="-1" strike="noStrike">
                <a:solidFill>
                  <a:srgbClr val="ff8600"/>
                </a:solidFill>
                <a:latin typeface="Arial"/>
              </a:rPr>
              <a:t>кукан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е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ремную песню поют рыба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ловом светится лужная </a:t>
            </a:r>
            <a:r>
              <a:rPr b="1" lang="ru-RU" sz="2000" spc="-1" strike="noStrike">
                <a:solidFill>
                  <a:srgbClr val="ff8600"/>
                </a:solidFill>
                <a:latin typeface="Arial"/>
              </a:rPr>
              <a:t>гол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устная песня, ты – русская бол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000" y="620640"/>
            <a:ext cx="82789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иалектиз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8600"/>
                </a:solidFill>
                <a:latin typeface="Arial"/>
              </a:rPr>
              <a:t>Выть - участок пахотной земли, наде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8600"/>
                </a:solidFill>
                <a:latin typeface="Arial"/>
              </a:rPr>
              <a:t>Гать  -  настил, насыпь на боло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8600"/>
                </a:solidFill>
                <a:latin typeface="Arial"/>
              </a:rPr>
              <a:t>Веретьё – грубая ткань из очёсков льна, серое полотно, сшитое из кус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8600"/>
                </a:solidFill>
                <a:latin typeface="Arial"/>
              </a:rPr>
              <a:t>Таган – железный обруч на ножках, под  которым разводят огонь, ставят на него варе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8600"/>
                </a:solidFill>
                <a:latin typeface="Arial"/>
              </a:rPr>
              <a:t>Кукан – островок, пригорок, появляющийся  во время спада в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77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2" dur="77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4" dur="77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6" dur="77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77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1" dur="77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3" dur="77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5" dur="77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77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0" dur="77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2" dur="77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4" dur="77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77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9" dur="77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3" dur="77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77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77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9" dur="77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648036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8600"/>
                </a:solidFill>
                <a:latin typeface="Arial"/>
              </a:rPr>
              <a:t>Авторские неологизмы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22147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ff66"/>
                </a:solidFill>
                <a:latin typeface="Arial"/>
              </a:rPr>
              <a:t>Баюкает хлюпь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ff66"/>
                </a:solidFill>
                <a:latin typeface="Arial"/>
              </a:rPr>
              <a:t>Дрёмная песня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ff66"/>
                </a:solidFill>
                <a:latin typeface="Arial"/>
              </a:rPr>
              <a:t>Лужная голь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8600"/>
                </a:solidFill>
                <a:latin typeface="Arial"/>
              </a:rPr>
              <a:t>Остальная лексика общеупотребительная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91520" cy="34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Владимир Иванович Даль -  автор «Толкового словаря живого великорусского языка», включившего около 200 000 слов. В этом словаре были  и слова, которые В. И. Даль придумал сам, стремясь избавить современный ему литературный язык от излишних, по его мнению, заимствований.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Какие способы словообразования использует В. И. Даль в следующих случаях?</a:t>
            </a:r>
            <a:endParaRPr b="0" lang="en-US" sz="22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6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5493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b6a3d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этимология – корнесловие, этнография – народописанье, хирургия – рукочиние, психиатрия-душеврачеванье, идеология- мыслесловие, анатомия-телословие, акустика - звукословие, библиография-книгознани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гимнаст - ловкосил, фантаст - пустомысл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пессимист-худодум, патриот- отчизнолюб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кокетка-миловидниц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синоним- однослов, лексикон- словотолк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аксиома- ясноистина, аорта – царь - жила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пульс - жилобо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8600"/>
                </a:solidFill>
                <a:latin typeface="Arial"/>
              </a:rPr>
              <a:t>Николай Васильевич Гоголь </a:t>
            </a:r>
            <a:br>
              <a:rPr sz="3600"/>
            </a:br>
            <a:r>
              <a:rPr b="0" lang="ru-RU" sz="3600" spc="-1" strike="noStrike">
                <a:solidFill>
                  <a:srgbClr val="ff8600"/>
                </a:solidFill>
                <a:latin typeface="Arial"/>
              </a:rPr>
              <a:t>о языке…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640"/>
            <a:ext cx="8229600" cy="32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«Сердцеведением и мудрым познанием жизни отзовётся слово британца; легким щёголем блеснёт и разлетится недолговечное слово француза; затейливо придумает своё, не всякому доступное умно-худощавое слово немец; но нет слова, которое было бы так замашисто, бойко, так вырывалось бы из-под самого сердца, так бы кипело и живо трепетало, как метко сказанное русское слово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9528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Пословицы и поговорк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Язык телу якорь. Язык с богом беседует.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Мал язык, да всем телом владеет.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Язык мал, великим человеком ворочает.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Мал язык - горами качает. Языком, что рогачом.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Язык - стяг, дружину водит. Язык царствами ворочает.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Язык языку весть подает.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Язык языку ответ дает, а голова смекает.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Язык голову кормит (он же и до побоев доводит).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Язык поит и кормит, и спину порет.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Язык хлебом кормит и дело портит.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Язык один, и в будни и в праздник.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Язык до Киева доведе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Красна речь слушаньем, а беседа смиреньем.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Петь хорошо вместе, а говорить порознь.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дин говорит - красно, двое говорят - пестро.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Во многословии не без пустословия.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Бог дал два уха, а один язык.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8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1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4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8600"/>
                </a:solidFill>
                <a:latin typeface="Arial"/>
              </a:rPr>
              <a:t>Фразеологические </a:t>
            </a:r>
            <a:br>
              <a:rPr sz="4000"/>
            </a:br>
            <a:r>
              <a:rPr b="0" lang="ru-RU" sz="4000" spc="-1" strike="noStrike">
                <a:solidFill>
                  <a:srgbClr val="ff8600"/>
                </a:solidFill>
                <a:latin typeface="Arial"/>
              </a:rPr>
              <a:t>обороты о  языке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99640" y="2205000"/>
            <a:ext cx="770436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60000"/>
              </a:lnSpc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lnSpc>
                <a:spcPct val="6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чить лясы, балясы - «заниматься пустой болтовней, пустословить»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lnSpc>
                <a:spcPct val="6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ржать язык на привязи - «молчать, не болтать, не говорить лишнего; быть осторожным в высказываниях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lnSpc>
                <a:spcPct val="6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глотить язык - «замолчать, перестать говорить, болтат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6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брать в рот воды- «хранить упорное молчание, ничего не говорить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lnSpc>
                <a:spcPct val="6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ржать язык за зубами - «молчать, не болтать, не говорить- лишнего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6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януть кота за хвост - «нудно, медленно говорить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lnSpc>
                <a:spcPct val="6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ез обиняков - «прямо, открыто, откровенно, не прибегая к хитростям» и  т. 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6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23640" y="3071880"/>
            <a:ext cx="6410520" cy="23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da7b5"/>
                </a:solidFill>
                <a:latin typeface="Arial"/>
              </a:rPr>
              <a:t>Русский язык – </a:t>
            </a:r>
            <a:r>
              <a:rPr b="1" i="1" lang="ru-RU" sz="3200" spc="-1" strike="noStrike">
                <a:solidFill>
                  <a:srgbClr val="ff8600"/>
                </a:solidFill>
                <a:latin typeface="Arial"/>
              </a:rPr>
              <a:t>ГОСУДАРСТВЕННЫЙ ЯЗЫК  РОССИЙСКОЙ  ФЕДЕРАЦИИ</a:t>
            </a:r>
            <a:endParaRPr b="0" lang="en-US" sz="32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45" name="Рисунок 4" descr="2.jpg"/>
          <p:cNvPicPr/>
          <p:nvPr/>
        </p:nvPicPr>
        <p:blipFill>
          <a:blip r:embed="rId1"/>
          <a:stretch/>
        </p:blipFill>
        <p:spPr>
          <a:xfrm>
            <a:off x="500040" y="500040"/>
            <a:ext cx="2357640" cy="2357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3"/>
          <p:cNvSpPr/>
          <p:nvPr/>
        </p:nvSpPr>
        <p:spPr>
          <a:xfrm>
            <a:off x="826920" y="190008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600"/>
                </a:solidFill>
                <a:latin typeface="Arial"/>
                <a:ea typeface="Times New Roman"/>
              </a:rPr>
              <a:t>Домашнее задани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600"/>
                </a:solidFill>
                <a:latin typeface="Arial"/>
                <a:ea typeface="Times New Roman"/>
              </a:rPr>
              <a:t>а) О-1 стр.10 - 14, упр.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600"/>
                </a:solidFill>
                <a:latin typeface="Arial"/>
                <a:ea typeface="Times New Roman"/>
              </a:rPr>
              <a:t>б) работа со словарными слов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600"/>
                </a:solidFill>
                <a:latin typeface="Arial"/>
                <a:ea typeface="Times New Roman"/>
              </a:rPr>
              <a:t>в) подготовка сообщений на тему «Языковой порт-рет современни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3739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8600"/>
                </a:solidFill>
                <a:latin typeface="Broadway"/>
              </a:rPr>
              <a:t>12 декабря 1993 года </a:t>
            </a:r>
            <a:r>
              <a:rPr b="1" lang="ru-RU" sz="3200" spc="-1" strike="noStrike">
                <a:solidFill>
                  <a:srgbClr val="ff8600"/>
                </a:solidFill>
                <a:latin typeface="Arial"/>
                <a:ea typeface="Arial"/>
              </a:rPr>
              <a:t>была принята Конституция Российской Федерации –  Основной Закон нашего государ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600"/>
                </a:solidFill>
                <a:latin typeface="Arial"/>
                <a:ea typeface="Arial"/>
              </a:rPr>
              <a:t>	</a:t>
            </a:r>
            <a:r>
              <a:rPr b="1" lang="ru-RU" sz="3200" spc="-1" strike="noStrike">
                <a:solidFill>
                  <a:srgbClr val="ff8600"/>
                </a:solidFill>
                <a:latin typeface="Arial"/>
                <a:ea typeface="Arial"/>
              </a:rPr>
              <a:t>В Конституции записано: «Государственным языком Российской Федерации на всей её территории является русский язык» (статья 68, пункт 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468360" y="112536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8600"/>
                </a:solidFill>
                <a:latin typeface="Arial"/>
              </a:rPr>
              <a:t>По отношению каждого человека к своему языку можно совершенно точно судить не только о культурном уровне, но и  о его гражданской цен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6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8600"/>
                </a:solidFill>
                <a:latin typeface="Arial"/>
              </a:rPr>
              <a:t>Истинная любовь к своей стране немыслима без любви к своему язы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600"/>
                </a:solidFill>
                <a:latin typeface="Arial"/>
              </a:rPr>
              <a:t>                        </a:t>
            </a:r>
            <a:r>
              <a:rPr b="1" lang="ru-RU" sz="3200" spc="-1" strike="noStrike">
                <a:solidFill>
                  <a:srgbClr val="ff8600"/>
                </a:solidFill>
                <a:latin typeface="Arial"/>
              </a:rPr>
              <a:t>К. Г. Паустов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685600"/>
            <a:ext cx="4441680" cy="30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600"/>
                </a:solidFill>
                <a:latin typeface="Arial"/>
              </a:rPr>
              <a:t>Русский язык как национальный язык русского народа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49" name="Picture 7" descr="rusflaga"/>
          <p:cNvPicPr/>
          <p:nvPr/>
        </p:nvPicPr>
        <p:blipFill>
          <a:blip r:embed="rId1"/>
          <a:stretch/>
        </p:blipFill>
        <p:spPr>
          <a:xfrm>
            <a:off x="5076720" y="189000"/>
            <a:ext cx="3382920" cy="2663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88640"/>
            <a:ext cx="82296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Семён Данилов, якутский поэт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Я ко всем наукам ключ имею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Я со всей вселенною знаком –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Это потому, что я владею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Русским всеохватным язык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Ахмед Ерикеев, татарский поэт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О Россия! Нет песни чудесней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Чем твоя, величавая ма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Свои самые первые песн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Я старался по-русски слага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Мне открыла сокровища мира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Всё, что буду я вечно беречь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Вдохновенная русская лира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8600"/>
                </a:solidFill>
                <a:latin typeface="Arial"/>
              </a:rPr>
              <a:t>Многозвучная русская реч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86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ff8600"/>
                </a:solidFill>
                <a:latin typeface="Arial"/>
              </a:rPr>
              <a:t>Гимн Российской Федерации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Россия – священная наша держав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Могучая воля, великая слава 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Россия – любимая наша стра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Твое достоянье на все времена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Припев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Предками данная мудрость народная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Братских народов союз веково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лавься, Отечество наше свободное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лавься, страна! Мы гордимся тобой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Раскинулись наши леса и пол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Одна ты на свете! Одна ты такая 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От южных морей до полярного кр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Хранимая Богом родная земля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Припев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Нам силу дает наша верность Отчизн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Так было, так есть и так будет всегда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рядущие нам открывают  го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Широкий простор для мечты и для жизни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Припев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5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5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5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5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5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5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1 001"/>
          <p:cNvPicPr/>
          <p:nvPr/>
        </p:nvPicPr>
        <p:blipFill>
          <a:blip r:embed="rId1"/>
          <a:stretch/>
        </p:blipFill>
        <p:spPr>
          <a:xfrm>
            <a:off x="539640" y="0"/>
            <a:ext cx="8136000" cy="6858000"/>
          </a:xfrm>
          <a:prstGeom prst="rect">
            <a:avLst/>
          </a:prstGeom>
          <a:ln w="9360">
            <a:solidFill>
              <a:srgbClr val="838d9b"/>
            </a:solidFill>
            <a:miter/>
          </a:ln>
        </p:spPr>
      </p:pic>
    </p:spTree>
  </p:cSld>
  <p:transition>
    <p:split dir="in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12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858000"/>
          </a:xfrm>
          <a:prstGeom prst="rect">
            <a:avLst/>
          </a:prstGeom>
          <a:ln w="9360">
            <a:solidFill>
              <a:srgbClr val="838d9b"/>
            </a:solidFill>
            <a:miter/>
          </a:ln>
        </p:spPr>
      </p:pic>
    </p:spTree>
  </p:cSld>
  <p:transition>
    <p:split dir="in" orient="ver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8:43:03Z</dcterms:created>
  <dc:creator>ТЕАСН</dc:creator>
  <dc:description/>
  <dc:language>en-US</dc:language>
  <cp:lastModifiedBy>Наталья</cp:lastModifiedBy>
  <dcterms:modified xsi:type="dcterms:W3CDTF">2018-02-27T19:48:23Z</dcterms:modified>
  <cp:revision>21</cp:revision>
  <dc:subject/>
  <dc:title>Русский язык – государственный язык  российской федерации</dc:title>
</cp:coreProperties>
</file>